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2B3DE4-CCF2-4F3A-911E-F06614F8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28D209A-6712-4894-8C29-1AB98062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78" name="Slide Number Placeholder 3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FD42F8D-D43D-4E7E-9BCB-71DB1312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98E672-6552-4E45-B210-EDD5021C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0516D0-F9F1-4F03-A433-D2DD3D06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C33-E0D2-4C44-90F8-D7A6A855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32D-F5EE-4F71-B1D0-84B0B4F3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D462D-98C3-4103-BAEE-060FD30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4BF7B-A86B-47F1-B883-BA5C51A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E838E-9066-4EB7-AF66-CFDCF6EB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DC09E-97EC-4929-A7F4-BD384BA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69023-C941-418D-A21D-7B00D333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DEAB1-07CE-4647-8642-190E9DB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BE8EC-9723-4AAD-B2C9-91F99AE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DDEBF-F10D-43B4-B541-D2DB2580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9C4D8-0B0E-4428-BDC3-A3BA571E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8F6B5-3C54-4CD4-A816-F87CFB6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4BA-88C9-4795-9B4C-667F146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6FAFD-C8E4-4BD1-9DA2-B1E0145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4E893-CFD4-4320-B1AD-A72EBAD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C22F5-1531-436B-AF71-89CDF65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3F71E-FA26-4D5E-BA15-F1B6694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8E713-B71B-473A-866A-32CF367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8E740-B647-4192-ACBD-DA1853F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24F91-C9F9-41F2-BFC0-932B1AB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34D53-A7AF-49C1-9315-D33939E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E5C8D-41BC-4BDE-93AD-BD40075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754D7-0FD2-4C4A-80D2-C1FB1E03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72A-088F-4C52-A3D0-0C27212D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C9729-F723-4262-BA99-9268DB5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38FF80-DE6F-42A7-B8EC-4D8E0B70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578ED2-F77C-4EDE-8E9C-C3620CEC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1F4B18-006A-4238-8D7B-5E74F33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E6369E-827F-40B7-A1F4-4126DD9E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0DDCAC-BEFD-4180-880D-58214C22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D88914-EE2A-4EF9-914C-1752BA70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49BA7B-7CA2-411D-BCAF-941F94EB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0A3DCA-45A3-4700-A594-472C64FC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ABB06C-6D8F-4FF5-A14A-E4A6284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24CA-E2F0-4FB4-84E6-5D24B008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C604AC-C9B2-4819-92FF-C084BA9E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0A1791-9944-4D11-A28E-9CFD2511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D687B0-6905-445D-9C2E-E7ABA7A9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267-0735-4078-B3CC-C113047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962-6929-4D40-A6E3-DA4015D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8A35-550F-475B-A949-EC199B9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664E-352D-44A7-BF69-04F91BB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B7E5-E3B3-4C97-B956-2B49968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BB37-8FF3-454B-80B5-7A61C1F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3FB-9E72-4F60-8E0F-E91FB5CD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49AD-0B97-4C98-81C5-901B761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A1A-AA0A-418F-8E4E-2A36B3C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C99E-A528-4FCC-B496-D5DE5AC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F31-C274-4419-9D9A-28F5EBAD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8F3-958E-4C46-B463-1A18BF36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2307-4C91-4C3C-B2EA-481F65F4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0D87-A0B0-48E5-BC50-18D6216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0560-8CD2-479B-9A35-630E8863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E148-DF8C-4BA1-B121-ED867F85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ECBE-C06E-4C0D-B87C-B13C0B9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266-6B9D-47F4-85AA-4D7A23D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8A66-6E56-4006-8E88-19EE626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66EA-6E78-49D4-8884-6FA65563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54EE-91D1-445B-94B7-FAD2CF1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6100-8252-4709-8DBF-54F45E7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8CE9-0624-4308-8D40-93967A25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29DE-4255-4FF0-B994-DAAAC487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2B49-CBCA-48F3-AA58-D244778E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F1DE1-9BFE-4F37-808D-545AAB61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0BB6-A55D-46B8-96BA-72E0B07D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7926-4505-44F5-AC61-BEFF4FD2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286-CC05-4411-8725-0A1ACA2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2AC5-C2C2-43E6-8752-3A1EFD3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4BD0-257C-41B8-9125-43C0034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B72A-F875-4F9B-96A2-014DE31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73FA-6E4F-46B9-824F-77F4E57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3886-D51B-4F3D-B91C-654B26A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AA14-7077-4351-98EF-FD7B563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DC67-E56E-4AD1-A9EA-66BF5E3F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1A5A-474E-4F99-A315-FD35A2D1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809B-14B9-4355-AAB7-1A47265F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552C-C58D-454D-9FC5-B519F0E9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DB6-C577-4959-90BB-0A8E257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7EAF-0A02-4227-BCEB-1249E11F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FDF94-98A6-4081-B2B7-346A5CE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90A2-861A-4F9F-85FD-73EC08CC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D7511-B052-4382-9EAD-885AA9BC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8CA2-525C-4682-9FAE-E375A886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3530-5E34-4F57-B012-D9E77A8C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2C6B-D1C7-4E6C-B271-6B56312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0CFF-17C8-4F28-9DF6-D5BC676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0C98-5D8C-4BCC-9A57-82D9F60F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88EE-2A94-4D0E-A699-0969D35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F27-8FFE-4FDD-AF1D-6F1ED53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4AD8-5711-4687-8356-14EFA14A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34D8-CBB7-42A9-8FDB-53FDC944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8F1F7-9D58-46FE-A6AB-ADEF9372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C326-A093-40DA-AC8A-4D0CA76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AEE98-FAF3-4B62-850E-B4592A8F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E382-C808-4D24-B477-7FE581E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5283-0433-4F50-9028-555B247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A5EB-54C1-435E-974D-B963420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65E8-743D-4FC3-A3F8-97BA9D2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1C8D-AA4F-4F4B-AAE9-397F70C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BEC-3346-41B2-908E-4655094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377D-CF36-4B07-AB5D-4BC36691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D05B-CDB1-4D05-8415-B453149C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C704-94D8-4E4E-A1B1-52F93D08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3185-278D-4B1C-AB3D-3FF5D735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5A10-DE20-4318-AFB8-C3DE23F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3105-0DF8-4EF0-B13D-EB65C8B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B8944-996F-49BF-AD39-AA2026C0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0D028-3E16-4227-9A2F-4C07522F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23380-6784-46C3-8A3F-6CE7358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6997-000D-4FDB-9DA1-5AE3A25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9CF-AD60-4FE1-BEFF-7350E16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D7CC7-C630-4FC5-AACB-717D5E9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A1B3-F0A9-4A57-94C8-C155007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1661-76FF-4D7E-95DD-D43FEF6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8A629-667D-4217-8912-B77EFF8B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3844E-1899-477E-8C75-68B0D3C5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D801E-A33D-44F7-8AAC-547660FA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EC26-E17D-4879-8019-C281485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A7576-445C-404D-A8AD-9CEFAF14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B0F1D-FA1D-4FD5-8E86-9974EBE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4E91E-5006-4F77-BCF6-1CC4369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929-ED20-4EAB-892B-7D495D4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B4CDB-152D-404D-A990-D609D38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A864D-13D2-45A3-A035-F01B202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1B9C2-F2C3-4F3E-8A12-6AB5FF5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F9FC8-102F-49D5-844B-7BD69B7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FD970-7A54-4B32-B2A6-C2C84BE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3525F-B213-4100-A032-7451ADB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DB7BA-ECEE-43EB-BA2F-7D2CA066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0F414-9669-4CBC-BB80-7A8212F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51167-17EF-435C-9774-00D1B73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A4EA6-EB63-446B-99E4-9D506C63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3866-0D12-4316-9124-4A639A901D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533-818D-414A-A1A7-2CA4D9F88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DFA-471A-4249-AC94-4CC845FFE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0867-4AFE-46F9-8698-C5759C13B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177-7198-482F-92C2-0E526A2DC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28A0-FFC5-4007-B20A-414137017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2CA5-0E17-4CB1-A43B-69A75DD54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2EA-10B8-48D5-A941-8BDF6D86B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7F5-0DAE-4E84-937E-E0CC19162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E98-2831-455F-9014-92C65E3BA9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6D9-9CEC-4D59-B414-01F8A20B72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wsdteam.wikispaces.com/CC+May+2012" TargetMode="External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kresley@mwsd.cc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45600" y="304164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Georgia"/>
              </a:rPr>
              <a:t>COMMON CORE STATE STANDARDS INITIATIV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Georgia"/>
                <a:hlinkClick r:id="rId1"/>
              </a:rPr>
              <a:t>http://www.corestandards.o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4" name="Picture 5" descr="CCSSO_full_color.jpg"/>
          <p:cNvPicPr/>
          <p:nvPr/>
        </p:nvPicPr>
        <p:blipFill>
          <a:blip r:embed="rId2"/>
          <a:stretch/>
        </p:blipFill>
        <p:spPr>
          <a:xfrm>
            <a:off x="5257800" y="228600"/>
            <a:ext cx="3637080" cy="1938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" descr="2009 color no dates"/>
          <p:cNvPicPr/>
          <p:nvPr/>
        </p:nvPicPr>
        <p:blipFill>
          <a:blip r:embed="rId3"/>
          <a:stretch/>
        </p:blipFill>
        <p:spPr>
          <a:xfrm>
            <a:off x="457200" y="628560"/>
            <a:ext cx="3878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Overview of the Initiativ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tate-led and developed common core standards for K-12 in English/Language Arts and Mathematic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cus on learning expectations for students, not how students get ther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46b86"/>
                </a:solidFill>
                <a:latin typeface="Georgia"/>
              </a:rPr>
              <a:t>My Docu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another resource for teachers to quickly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for lesson idea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teachers a copy of the CCSS standard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verview for each gra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er suggestions for cross-curricula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gration of CCS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e as an aid in future curriculum plann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7FB-425F-4C54-9BBA-602EFD471B1F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to Use It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4343400" y="103680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D16F-B351-4CEA-B1AF-9793D034EE66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304920" y="1676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py is on the Wiki for you: 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http://mwsdteam.wikispaces.com/CC+May+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take a quick look n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More Informatio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Georgia"/>
                <a:hlinkClick r:id="rId1"/>
              </a:rPr>
              <a:t>bkresley@mwsd.c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it: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Georgia"/>
                <a:hlinkClick r:id="rId2"/>
              </a:rPr>
              <a:t>www.corestandards.or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gn up for Common Core State Standards updat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ccsso.org/whats_new/newsletters/commoncoreupdates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26:18Z</dcterms:created>
  <dc:creator>John Tanner</dc:creator>
  <dc:description/>
  <dc:language>en-US</dc:language>
  <cp:lastModifiedBy>bkresley</cp:lastModifiedBy>
  <dcterms:modified xsi:type="dcterms:W3CDTF">2012-05-23T21:26:24Z</dcterms:modified>
  <cp:revision>2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FFDA35C05573214090F9F4460B59C365</vt:lpwstr>
  </property>
  <property fmtid="{D5CDD505-2E9C-101B-9397-08002B2CF9AE}" pid="7" name="Document Type">
    <vt:lpwstr>Designs</vt:lpwstr>
  </property>
  <property fmtid="{D5CDD505-2E9C-101B-9397-08002B2CF9AE}" pid="8" name="Folders">
    <vt:lpwstr>31</vt:lpwstr>
  </property>
  <property fmtid="{D5CDD505-2E9C-101B-9397-08002B2CF9AE}" pid="9" name="Keyword">
    <vt:lpwstr/>
  </property>
  <property fmtid="{D5CDD505-2E9C-101B-9397-08002B2CF9AE}" pid="10" name="Keywords">
    <vt:lpwstr/>
  </property>
  <property fmtid="{D5CDD505-2E9C-101B-9397-08002B2CF9AE}" pid="11" name="Slides">
    <vt:lpwstr>13</vt:lpwstr>
  </property>
  <property fmtid="{D5CDD505-2E9C-101B-9397-08002B2CF9AE}" pid="12" name="Subfolder">
    <vt:lpwstr>50</vt:lpwstr>
  </property>
  <property fmtid="{D5CDD505-2E9C-101B-9397-08002B2CF9AE}" pid="13" name="Subject">
    <vt:lpwstr/>
  </property>
  <property fmtid="{D5CDD505-2E9C-101B-9397-08002B2CF9AE}" pid="14" name="_Author">
    <vt:lpwstr>John Tanner</vt:lpwstr>
  </property>
  <property fmtid="{D5CDD505-2E9C-101B-9397-08002B2CF9AE}" pid="15" name="_Category">
    <vt:lpwstr/>
  </property>
  <property fmtid="{D5CDD505-2E9C-101B-9397-08002B2CF9AE}" pid="16" name="_Comments">
    <vt:lpwstr/>
  </property>
</Properties>
</file>